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447920" y="755640"/>
            <a:ext cx="6400800" cy="545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8032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952080"/>
            <a:ext cx="778032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447920" y="755640"/>
            <a:ext cx="6400800" cy="545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656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440" y="1523880"/>
            <a:ext cx="379656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952080"/>
            <a:ext cx="379656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440" y="3952080"/>
            <a:ext cx="379656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447920" y="755640"/>
            <a:ext cx="6400800" cy="545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488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6320" y="1523880"/>
            <a:ext cx="250488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6840" y="1523880"/>
            <a:ext cx="250488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952080"/>
            <a:ext cx="250488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6320" y="3952080"/>
            <a:ext cx="250488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6840" y="3952080"/>
            <a:ext cx="250488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47920" y="755640"/>
            <a:ext cx="6400800" cy="545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80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447920" y="755640"/>
            <a:ext cx="6400800" cy="545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8032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47920" y="755640"/>
            <a:ext cx="6400800" cy="545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656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440" y="1523880"/>
            <a:ext cx="379656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47920" y="755640"/>
            <a:ext cx="6400800" cy="545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0008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447920" y="761760"/>
            <a:ext cx="64008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47920" y="755640"/>
            <a:ext cx="6400800" cy="545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656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440" y="1523880"/>
            <a:ext cx="379656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952080"/>
            <a:ext cx="379656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47920" y="755640"/>
            <a:ext cx="6400800" cy="545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656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440" y="1523880"/>
            <a:ext cx="379656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440" y="3952080"/>
            <a:ext cx="379656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47920" y="755640"/>
            <a:ext cx="6400800" cy="545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656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440" y="1523880"/>
            <a:ext cx="379656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952080"/>
            <a:ext cx="778032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47920" y="761760"/>
            <a:ext cx="640080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00080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8032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56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6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56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56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56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56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56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6320" y="76320"/>
            <a:ext cx="1676160" cy="5061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4135680" y="6400080"/>
            <a:ext cx="75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602D4-40B1-4252-A593-A1CCF284F1E9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" name=""/>
          <p:cNvGraphicFramePr/>
          <p:nvPr/>
        </p:nvGraphicFramePr>
        <p:xfrm>
          <a:off x="6477120" y="119160"/>
          <a:ext cx="2514600" cy="414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77120" y="119160"/>
                    <a:ext cx="2514600" cy="41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800080"/>
                </a:solidFill>
                <a:latin typeface="Times New Roman"/>
              </a:rPr>
              <a:t>Protel 99 SE</a:t>
            </a:r>
            <a:r>
              <a:rPr b="1" lang="zh-CN" sz="4400" spc="-1" strike="noStrike">
                <a:solidFill>
                  <a:srgbClr val="800080"/>
                </a:solidFill>
                <a:latin typeface="Times New Roman"/>
              </a:rPr>
              <a:t>简介</a:t>
            </a:r>
            <a:endParaRPr b="1" lang="en-US" sz="44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971800" y="5486400"/>
            <a:ext cx="5410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Monotype Corsiva"/>
              </a:rPr>
              <a:t>____________________________</a:t>
            </a:r>
            <a:r>
              <a:rPr b="0" lang="zh-CN" sz="2000" spc="-1" strike="noStrike">
                <a:solidFill>
                  <a:srgbClr val="000000"/>
                </a:solidFill>
                <a:latin typeface="Monotype Corsiva"/>
                <a:ea typeface="幼圆"/>
              </a:rPr>
              <a:t>清华</a:t>
            </a:r>
            <a:r>
              <a:rPr b="0" lang="zh-CN" sz="2000" spc="-1" strike="noStrike">
                <a:solidFill>
                  <a:srgbClr val="000000"/>
                </a:solidFill>
                <a:latin typeface="Monotype Corsiva"/>
                <a:ea typeface="幼圆"/>
              </a:rPr>
              <a:t>Motorola</a:t>
            </a:r>
            <a:r>
              <a:rPr b="0" lang="zh-CN" sz="2000" spc="-1" strike="noStrike">
                <a:solidFill>
                  <a:srgbClr val="000000"/>
                </a:solidFill>
                <a:latin typeface="Monotype Corsiva"/>
                <a:ea typeface="幼圆"/>
              </a:rPr>
              <a:t>单片机与</a:t>
            </a:r>
            <a:r>
              <a:rPr b="0" lang="zh-CN" sz="2000" spc="-1" strike="noStrike">
                <a:solidFill>
                  <a:srgbClr val="000000"/>
                </a:solidFill>
                <a:latin typeface="Monotype Corsiva"/>
                <a:ea typeface="幼圆"/>
              </a:rPr>
              <a:t>DSP</a:t>
            </a:r>
            <a:r>
              <a:rPr b="0" lang="zh-CN" sz="2000" spc="-1" strike="noStrike">
                <a:solidFill>
                  <a:srgbClr val="000000"/>
                </a:solidFill>
                <a:latin typeface="Monotype Corsiva"/>
                <a:ea typeface="幼圆"/>
              </a:rPr>
              <a:t>应用开发研究中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48160" y="5410080"/>
            <a:ext cx="19047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2003-8-16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447920" y="761760"/>
            <a:ext cx="640080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00080"/>
                </a:solidFill>
                <a:latin typeface="Times New Roman"/>
              </a:rPr>
              <a:t>Protel99</a:t>
            </a:r>
            <a:r>
              <a:rPr b="1" lang="zh-CN" sz="3000" spc="-1" strike="noStrike">
                <a:solidFill>
                  <a:srgbClr val="800080"/>
                </a:solidFill>
                <a:latin typeface="Times New Roman"/>
              </a:rPr>
              <a:t>主要特色</a:t>
            </a:r>
            <a:endParaRPr b="1" lang="en-US" sz="3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8032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rotel 99 S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是基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Win95 /Win NT/ Win98/ Win200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纯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位电路设计制版系统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rotel 99 S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提供了一个集成的设计环境，包括了原理图设计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C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布线工具，集成的设计文档管理，支持通过网络进行工作组协同设计功能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47920" y="761760"/>
            <a:ext cx="640080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00080"/>
                </a:solidFill>
                <a:latin typeface="Times New Roman"/>
              </a:rPr>
              <a:t>Protel</a:t>
            </a:r>
            <a:r>
              <a:rPr b="1" lang="zh-CN" sz="3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800080"/>
                </a:solidFill>
                <a:latin typeface="Times New Roman"/>
              </a:rPr>
              <a:t>99</a:t>
            </a:r>
            <a:r>
              <a:rPr b="1" lang="zh-CN" sz="3000" spc="-1" strike="noStrike">
                <a:solidFill>
                  <a:srgbClr val="800080"/>
                </a:solidFill>
                <a:latin typeface="Times New Roman"/>
              </a:rPr>
              <a:t> SE</a:t>
            </a:r>
            <a:r>
              <a:rPr b="1" lang="en-US" sz="3000" spc="-1" strike="noStrike">
                <a:solidFill>
                  <a:srgbClr val="800080"/>
                </a:solidFill>
                <a:latin typeface="Times New Roman"/>
              </a:rPr>
              <a:t>组成</a:t>
            </a:r>
            <a:endParaRPr b="1" lang="en-US" sz="3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80320" cy="392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71680" indent="-57168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原理图设计系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印刷电路板设计系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信号模拟仿真系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可编程逻辑设计系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rotel 99 S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内置编辑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7920" y="761760"/>
            <a:ext cx="640080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80"/>
                </a:solidFill>
                <a:latin typeface="Times New Roman"/>
              </a:rPr>
              <a:t>原理图设计系统</a:t>
            </a:r>
            <a:endParaRPr b="1" lang="en-US" sz="24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11280" y="1773360"/>
            <a:ext cx="7780320" cy="392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71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原理图设计系统是用于原理图设计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dvanced Schemati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系统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这部分包括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1)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设计原理图的原理图编辑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2)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修改、生成零件的零件库编辑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ch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447920" y="761760"/>
            <a:ext cx="640080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800080"/>
                </a:solidFill>
                <a:latin typeface="Times New Roman"/>
              </a:rPr>
              <a:t>印刷电路板设计系统</a:t>
            </a:r>
            <a:endParaRPr b="1" lang="en-US" sz="26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11280" y="1773360"/>
            <a:ext cx="7780320" cy="392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71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印刷电路板设计系统是用于电路板设计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dvanced PC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这部分包括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1)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设计电路板的电路板编辑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CB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修改、生成零件封装的零件封装编辑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CBLib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47920" y="761760"/>
            <a:ext cx="640080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800080"/>
                </a:solidFill>
                <a:latin typeface="Times New Roman"/>
              </a:rPr>
              <a:t>信号模拟仿真系统</a:t>
            </a:r>
            <a:endParaRPr b="1" lang="en-US" sz="26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7780320" cy="93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71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信号模拟仿真系统是用于原理图上进行信号模拟仿真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PICE 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3f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系统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442880" y="2490840"/>
            <a:ext cx="6400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00080"/>
                </a:solidFill>
                <a:latin typeface="Times New Roman"/>
              </a:rPr>
              <a:t>可编程逻辑设计系统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3680" y="3070080"/>
            <a:ext cx="7780320" cy="9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571680" indent="-571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可编程逻辑设计系统是基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UPL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集成于原理图设计系统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L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设计系统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447920" y="4221000"/>
            <a:ext cx="6400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00080"/>
                </a:solidFill>
                <a:latin typeface="Times New Roman"/>
              </a:rPr>
              <a:t>Protel99</a:t>
            </a:r>
            <a:r>
              <a:rPr b="1" lang="zh-CN" sz="3000" spc="-1" strike="noStrike">
                <a:solidFill>
                  <a:srgbClr val="800080"/>
                </a:solidFill>
                <a:latin typeface="Times New Roman"/>
              </a:rPr>
              <a:t>内置编辑器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4727520"/>
            <a:ext cx="784872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1000"/>
          </a:bodyPr>
          <a:p>
            <a:pPr marL="462960" indent="-462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这部分包括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2960" indent="-462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1)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显示、编辑文本的文本编辑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2960" indent="-462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2)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显示、编辑电子表格的电子表格编辑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p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47920" y="761760"/>
            <a:ext cx="640080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00080"/>
                </a:solidFill>
                <a:latin typeface="Times New Roman"/>
              </a:rPr>
              <a:t>电路板设计步骤</a:t>
            </a:r>
            <a:endParaRPr b="1" lang="en-US" sz="3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8032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716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18ffd"/>
                </a:solidFill>
                <a:latin typeface="Times New Roman"/>
              </a:rPr>
              <a:t>1. </a:t>
            </a:r>
            <a:r>
              <a:rPr b="1" lang="zh-CN" sz="2000" spc="-1" strike="noStrike">
                <a:solidFill>
                  <a:srgbClr val="618ffd"/>
                </a:solidFill>
                <a:latin typeface="Times New Roman"/>
              </a:rPr>
              <a:t>电路原理图的设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电路原理图的设计主要是用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rotel 99 SE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的原理图设计系统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Advanced Schematic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来绘制一张电路原理图。在这一过程中，要充分利用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rotel 99 SE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所提供的各种原理图绘图工具、各种编辑功能，来实现目的，即得到一张正确、精美的电路原理图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18ffd"/>
                </a:solidFill>
                <a:latin typeface="Times New Roman"/>
              </a:rPr>
              <a:t>2. </a:t>
            </a:r>
            <a:r>
              <a:rPr b="1" lang="zh-CN" sz="2000" spc="-1" strike="noStrike">
                <a:solidFill>
                  <a:srgbClr val="618ffd"/>
                </a:solidFill>
                <a:latin typeface="Times New Roman"/>
              </a:rPr>
              <a:t>产生网络表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网络表是电路原理图与印制电路板之间的一座桥梁。网络表可以从电路原理图中获得，也可从印制电路板中提取出来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18ffd"/>
                </a:solidFill>
                <a:latin typeface="Times New Roman"/>
              </a:rPr>
              <a:t>3. </a:t>
            </a:r>
            <a:r>
              <a:rPr b="1" lang="zh-CN" sz="2000" spc="-1" strike="noStrike">
                <a:solidFill>
                  <a:srgbClr val="618ffd"/>
                </a:solidFill>
                <a:latin typeface="Times New Roman"/>
              </a:rPr>
              <a:t>印制电路板的设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印制电路板的设计主要是利用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rotel 99 SE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的印刷电路板设计系统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CB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提供的强大功能来实现电路板的版面设计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9T01:57:52Z</dcterms:created>
  <dc:creator>jovy jiang</dc:creator>
  <dc:description/>
  <dc:language>en-US</dc:language>
  <cp:lastModifiedBy>jiang junfeng</cp:lastModifiedBy>
  <dcterms:modified xsi:type="dcterms:W3CDTF">2003-07-17T07:18:43Z</dcterms:modified>
  <cp:revision>29</cp:revision>
  <dc:subject/>
  <dc:title>MC68HC908GP32IDK 在线编程开发系统</dc:title>
</cp:coreProperties>
</file>